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4DCB-2A4E-4D70-AE54-39B788E9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746C-0049-47E7-B8DF-0718AA08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53DE-9D6C-4FA7-9FBE-E40EE830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E6A0-CBA4-425D-B1C1-D8F7B5D9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B873-1A34-42ED-BCA9-760FF2B8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594F-3E8A-4EC7-AF17-EB5F726B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F923-232A-4798-ACBE-65EF3F12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3FC3-73A5-401C-BA2D-6082C59F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0BD5-B550-4620-84D7-5067707B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D67C-06C8-4560-8A3F-688311FA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B1BF-2B76-42B4-9CE8-2F6EA01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B89F-BC51-4FA5-A6E4-8F3FD252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7394-E308-4015-B624-2A4B9483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C117-6392-47C5-ABEC-BCD3F029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3993-1B1C-4D0F-AE86-55DB4642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91A2-A97E-47CD-ACD2-9745970F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A730-6D77-4C47-9D20-321A1393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4B34-8DD0-49EE-A43F-A6AE71F1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2332-81F6-4FDC-A3A0-781EB00C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8B26-FC44-424E-BD6D-3996C9C3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097D-206E-4C15-8913-6965FCCD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BB17-CC69-49E5-BF3F-95E69CDA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D75D-6625-4CE7-959D-9DD7A7A0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A6ED-307F-4CD4-977E-4393DE3D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E786-ED2F-4FC5-824A-F70305BD0AF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B992-19C3-4652-B9BC-02C7896CAA8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008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50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луваме ние през широко море, търсим покой у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коло нас безпокойно е все -търсим покой у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лашат ни бури и върли въл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при Отца в безопасност ще см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ни е канил в жилището Си, има покой у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879120"/>
            <a:ext cx="9506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трашен е неизмерим океан -търсим покой у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 пред нас тих небесен лиман -търсим покой у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ърд стой, кормчио, и буден отпред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рли фъртуни ни удрят навред. Самата буря ни кара напред! Търсим покой у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181080" y="686520"/>
            <a:ext cx="957744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коро в небесно жилище ще сме, близо сме веч до дом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еко се движим по бурно море -стигнахме веч у до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а на Бога! Веч няма беда! Слизаме всички без страх на брега! „Слава во вншних! - ще пеем всегд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игнахме веч у дома!"</a:t>
            </a:r>
            <a:r>
              <a:rPr b="0" lang="bg-BG" sz="4400" spc="-1" strike="noStrike">
                <a:solidFill>
                  <a:srgbClr val="b8c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12-16T16:03:28Z</dcterms:modified>
  <cp:revision>74</cp:revision>
  <dc:subject/>
  <dc:title>Slide 1</dc:title>
</cp:coreProperties>
</file>